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CAA-127C-4AC6-8AF1-466284B5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160-B22C-4495-A734-584B522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1B0-32AD-42D9-9444-31ADAE99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3C1-CD87-443A-B955-66946B41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6CEDB-522D-41B1-970B-D8098652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39A5-86E8-47B1-AF02-F478EA05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33546-2D8F-4A14-BDA2-0162F6EF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76D85-5299-45A3-A52A-DC6CFBA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E62F-DA26-40DB-B48B-04BEF74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F435A-2ED6-4E88-9CC8-7CA4672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3B9ED-6A00-42E9-9638-8BFE4900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129-8A8B-409A-BAF5-F1A8F16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06381-F59B-4D55-B301-275056D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2037-0A3E-456F-970D-F18974B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27FD1-035E-4254-827F-1FC15E9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BEF8-CFFE-4E5E-A355-0B602746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182A-E1F7-4C03-816A-67635BF0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97E-257E-4FB9-8088-CCBC72F3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562-50DD-4906-9CA5-4D5E96A1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202-09CF-4522-A1A6-16155AD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BC6-9D05-48F4-88DB-6CE587A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5E7-F3A8-4D59-B514-B57B018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6A8-793A-4459-A69D-247EA16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3DE-4CF5-4F50-BF25-CE85CB6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7DE-8876-4F76-A49B-8EC7DC726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9E0-3CCC-4E96-B1AD-4ADF44F3B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CLIMA </a:t>
            </a:r>
            <a:br>
              <a:rPr sz="6000"/>
            </a:b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ÂNIE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2438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676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Clima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= felul cum se desfăşoară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temperatura,precipitaţiile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şi vântul , într-un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număr mare de ani şi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pe un teritoriu foarte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înt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Vorbind despre </a:t>
            </a: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vre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vem în veder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temperatu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precipitaţiil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vânt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3300"/>
                </a:solidFill>
                <a:latin typeface="Tahoma"/>
              </a:rPr>
              <a:t>Temperatura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se poate modifica de la o zi la alta, de la o lună la alta, pe perioade nedeterminate de tim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diferă de la un anotimp la altu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diferă de la o formă de relief la al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Precipitaţiile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variază de la o formă de relief la alta, de la un anotimp la alt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ff3300"/>
                </a:solidFill>
                <a:latin typeface="Tahoma"/>
              </a:rPr>
              <a:t>Vânturile</a:t>
            </a:r>
            <a:r>
              <a:rPr b="0" i="1" lang="ro-RO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în timpul iernii suflă Crivăţul, dinspre E sau N-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vânturile dinspre S sunt mai călduţ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ele dinspre V aduc multe precipitaţi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ele din E sunt secetoa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09-11-19T18:5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